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651-520B-48C8-9A29-80F94AF6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634-E6F0-4EA6-ACFE-8B805FE0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3BB-5327-44F5-94C5-8E656C19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965-9132-4FE9-A21F-11673C8E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BFF-FA3F-49B3-86B5-389F74FA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3A4-584D-4D76-971C-7CAE8D48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670-DB05-4C30-AE4C-F24F7324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C4B-37A9-467B-9D15-4C1EEDE4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697-8B3B-4DFE-8014-3299D98C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7DF-D926-444E-8D76-17D0FEB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DAE-04D2-451E-BFD2-3BDAF63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60B-FFCF-4350-881C-CFEADB9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0E82-D5C1-4618-9E64-EEF3545465B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6 Chcem navždy tvojím by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lávu tvoju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ať v tebe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ieť tvoju tvá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j spásonosný svi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vzácn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o mnou bu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rán sa tvojich skr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ich spoči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teba ni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teba nechcem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i môj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a m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22:37Z</dcterms:modified>
  <cp:revision>19</cp:revision>
  <dc:subject/>
  <dc:title>Je veľký náš Pán, on slávy je Kráľ Nech do všetkých strán  spev vrúcnych znie chvál.</dc:title>
</cp:coreProperties>
</file>